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65616-8305-448F-BAA6-5BF71C54D34C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66F22-2597-408A-866D-D0B8B175C3D2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66B03-1BE6-427D-9E33-AE4EFA9F0C22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E2BFE-04A9-4C59-86FD-6ADA6F5751BE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79A09-BE19-484F-BB1B-8796A42F5730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5F4DB-14E9-400F-9EDB-249783A3A450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B9AF1-EAC7-4BF7-8645-F59A85680F93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CECA3-DF57-4415-8A35-1FF6C84ACD05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BC0F6-C01C-4801-BCBF-FE100000162D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CDBD7-E407-424A-BF12-00E6336B691E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70D75-0735-46C5-A8AA-C0116A5AD025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E05D5-991A-4C3D-A2C2-429BF5406F7E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A5C84-EB9F-42C8-99BA-BA4E37229629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E476C-4FC4-496F-9CF0-2B6AB7DD5796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993BC-F3E2-40F5-9D33-B805B3D5E46B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51946-CB95-424C-9E4F-241CF2A1DD24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C6A43-392E-4796-8522-7FDA96EE7C7E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EA2EC-E9FE-4E60-89A8-B4B34A392DDC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998FD-3D07-432B-BAF9-190405D1ABD7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2A7FD-F9A3-48F0-B46B-D4CB55743E25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3DAB8-57E2-48EF-983A-7FB06F656B39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1B46F-D8AA-48C4-B181-5306A19EC680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9D8BC-2F60-430E-8A9C-EA18AD2BF5A8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3FB28-D740-4589-AA12-BC253B52C33D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1C3C0-6E58-4752-A06A-202D49B3A767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469CC-4DF9-42BC-AEBC-36C8A2BF5AF3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0DF6A-0DD7-4EC9-8B0B-B28AABC205A3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DC78E-5118-4A20-9CFF-21DA6690D881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9C892-0C20-49C1-9DFA-1E4B0CF931A1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01F4-E945-4C5B-848E-14BCF634F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B400-7593-4BC1-98DB-0084C1B82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84F4-071D-4E0E-BF99-17D53A896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0DE3-FDA0-421A-A7AA-B10162F57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303B-4C75-452F-B695-DD32225EB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FC84-BBD6-4947-92B4-9520C4842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3457-4886-44B5-A288-953A77E4C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BA74-F03C-4E31-BAE6-AC6438DF6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C9E9-A38D-4252-A50D-820E7B1BF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AA3E-992D-4FF8-9C71-5EE367DBF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48CC-B242-4365-A5E3-4F7A037B7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29F2-D79C-4CC8-BEDF-1F8C225F3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5CAA6-7127-45FF-94C7-E6ED76E2F1A6}" type="slidenum">
              <a:rPr b="0" lang="ko-KR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굴림"/>
              </a:rPr>
              <a:t>我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7"/>
          <p:cNvSpPr/>
          <p:nvPr/>
        </p:nvSpPr>
        <p:spPr>
          <a:xfrm rot="10800000">
            <a:off x="2095200" y="6389640"/>
            <a:ext cx="281124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wǒ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나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忙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7"/>
          <p:cNvSpPr/>
          <p:nvPr/>
        </p:nvSpPr>
        <p:spPr>
          <a:xfrm rot="10800000">
            <a:off x="333000" y="6389640"/>
            <a:ext cx="633564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máng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바쁘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呢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7"/>
          <p:cNvSpPr/>
          <p:nvPr/>
        </p:nvSpPr>
        <p:spPr>
          <a:xfrm rot="10800000">
            <a:off x="333000" y="6389640"/>
            <a:ext cx="633564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8"/>
          <p:cNvSpPr/>
          <p:nvPr/>
        </p:nvSpPr>
        <p:spPr>
          <a:xfrm rot="10800000">
            <a:off x="215640" y="5167440"/>
            <a:ext cx="63817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000" spc="-1" strike="noStrike">
                <a:solidFill>
                  <a:srgbClr val="000000"/>
                </a:solidFill>
                <a:latin typeface="Arial"/>
              </a:rPr>
              <a:t>어기조사</a:t>
            </a: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ko-KR" sz="7000" spc="-1" strike="noStrike">
                <a:solidFill>
                  <a:srgbClr val="000000"/>
                </a:solidFill>
                <a:latin typeface="Arial"/>
              </a:rPr>
              <a:t>의문</a:t>
            </a: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她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7"/>
          <p:cNvSpPr/>
          <p:nvPr/>
        </p:nvSpPr>
        <p:spPr>
          <a:xfrm rot="10800000">
            <a:off x="333000" y="6389640"/>
            <a:ext cx="633564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tā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그녀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是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7"/>
          <p:cNvSpPr/>
          <p:nvPr/>
        </p:nvSpPr>
        <p:spPr>
          <a:xfrm rot="10800000">
            <a:off x="333000" y="6389640"/>
            <a:ext cx="633564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shì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이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哪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7"/>
          <p:cNvSpPr/>
          <p:nvPr/>
        </p:nvSpPr>
        <p:spPr>
          <a:xfrm rot="10800000">
            <a:off x="333000" y="6389640"/>
            <a:ext cx="633564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nǎ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어느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国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7"/>
          <p:cNvSpPr/>
          <p:nvPr/>
        </p:nvSpPr>
        <p:spPr>
          <a:xfrm rot="10800000">
            <a:off x="333000" y="6389640"/>
            <a:ext cx="633564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guó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나라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韩国人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7"/>
          <p:cNvSpPr/>
          <p:nvPr/>
        </p:nvSpPr>
        <p:spPr>
          <a:xfrm rot="10800000">
            <a:off x="333000" y="6690600"/>
            <a:ext cx="6335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0" spc="-1" strike="noStrike">
                <a:solidFill>
                  <a:srgbClr val="000000"/>
                </a:solidFill>
                <a:latin typeface="Arial"/>
              </a:rPr>
              <a:t>Hánguórén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한국인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都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7"/>
          <p:cNvSpPr/>
          <p:nvPr/>
        </p:nvSpPr>
        <p:spPr>
          <a:xfrm rot="10800000">
            <a:off x="333000" y="6389640"/>
            <a:ext cx="633564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dōu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모두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吗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7"/>
          <p:cNvSpPr/>
          <p:nvPr/>
        </p:nvSpPr>
        <p:spPr>
          <a:xfrm rot="10800000">
            <a:off x="333000" y="6389640"/>
            <a:ext cx="633564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ma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8"/>
          <p:cNvSpPr/>
          <p:nvPr/>
        </p:nvSpPr>
        <p:spPr>
          <a:xfrm rot="10800000">
            <a:off x="215640" y="5167440"/>
            <a:ext cx="63817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000" spc="-1" strike="noStrike">
                <a:solidFill>
                  <a:srgbClr val="000000"/>
                </a:solidFill>
                <a:latin typeface="Arial"/>
              </a:rPr>
              <a:t>어기조사</a:t>
            </a: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ko-KR" sz="7000" spc="-1" strike="noStrike">
                <a:solidFill>
                  <a:srgbClr val="000000"/>
                </a:solidFill>
                <a:latin typeface="Arial"/>
              </a:rPr>
              <a:t>의문</a:t>
            </a: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中国人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7"/>
          <p:cNvSpPr/>
          <p:nvPr/>
        </p:nvSpPr>
        <p:spPr>
          <a:xfrm rot="10800000">
            <a:off x="333000" y="6805440"/>
            <a:ext cx="633564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000000"/>
                </a:solidFill>
                <a:latin typeface="Arial"/>
              </a:rPr>
              <a:t>zhōngguórén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중국인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굴림"/>
              </a:rPr>
              <a:t>叫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7"/>
          <p:cNvSpPr/>
          <p:nvPr/>
        </p:nvSpPr>
        <p:spPr>
          <a:xfrm rot="10800000">
            <a:off x="333000" y="6389640"/>
            <a:ext cx="633564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jiào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나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学生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7"/>
          <p:cNvSpPr/>
          <p:nvPr/>
        </p:nvSpPr>
        <p:spPr>
          <a:xfrm rot="10800000">
            <a:off x="333000" y="6690600"/>
            <a:ext cx="6335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0" spc="-1" strike="noStrike">
                <a:solidFill>
                  <a:srgbClr val="000000"/>
                </a:solidFill>
                <a:latin typeface="Arial"/>
              </a:rPr>
              <a:t>xuésheng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학생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日本人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7"/>
          <p:cNvSpPr/>
          <p:nvPr/>
        </p:nvSpPr>
        <p:spPr>
          <a:xfrm rot="10800000">
            <a:off x="333000" y="6539760"/>
            <a:ext cx="633564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0" spc="-1" strike="noStrike">
                <a:solidFill>
                  <a:srgbClr val="000000"/>
                </a:solidFill>
                <a:latin typeface="Arial"/>
              </a:rPr>
              <a:t>Rìběnrén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일본인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美国人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7"/>
          <p:cNvSpPr/>
          <p:nvPr/>
        </p:nvSpPr>
        <p:spPr>
          <a:xfrm rot="10800000">
            <a:off x="333000" y="6690600"/>
            <a:ext cx="6335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0" spc="-1" strike="noStrike">
                <a:solidFill>
                  <a:srgbClr val="000000"/>
                </a:solidFill>
                <a:latin typeface="Arial"/>
              </a:rPr>
              <a:t>Měiguórén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미국인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朋友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7"/>
          <p:cNvSpPr/>
          <p:nvPr/>
        </p:nvSpPr>
        <p:spPr>
          <a:xfrm rot="10800000">
            <a:off x="333000" y="6539760"/>
            <a:ext cx="633564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0" spc="-1" strike="noStrike">
                <a:solidFill>
                  <a:srgbClr val="000000"/>
                </a:solidFill>
                <a:latin typeface="Arial"/>
              </a:rPr>
              <a:t>péngyou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8"/>
          <p:cNvSpPr/>
          <p:nvPr/>
        </p:nvSpPr>
        <p:spPr>
          <a:xfrm rot="10800000">
            <a:off x="215640" y="4970520"/>
            <a:ext cx="63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친구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体育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7"/>
          <p:cNvSpPr/>
          <p:nvPr/>
        </p:nvSpPr>
        <p:spPr>
          <a:xfrm rot="10800000">
            <a:off x="333000" y="6389640"/>
            <a:ext cx="633564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tǐyù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8"/>
          <p:cNvSpPr/>
          <p:nvPr/>
        </p:nvSpPr>
        <p:spPr>
          <a:xfrm rot="10800000">
            <a:off x="215640" y="4970520"/>
            <a:ext cx="63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체육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体育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7"/>
          <p:cNvSpPr/>
          <p:nvPr/>
        </p:nvSpPr>
        <p:spPr>
          <a:xfrm rot="10800000">
            <a:off x="333000" y="6389640"/>
            <a:ext cx="633564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tǐyù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8"/>
          <p:cNvSpPr/>
          <p:nvPr/>
        </p:nvSpPr>
        <p:spPr>
          <a:xfrm rot="10800000">
            <a:off x="215640" y="4970520"/>
            <a:ext cx="63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체육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音乐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7"/>
          <p:cNvSpPr/>
          <p:nvPr/>
        </p:nvSpPr>
        <p:spPr>
          <a:xfrm rot="10800000">
            <a:off x="333000" y="6389640"/>
            <a:ext cx="633564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yīnyuè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음악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贵姓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7"/>
          <p:cNvSpPr/>
          <p:nvPr/>
        </p:nvSpPr>
        <p:spPr>
          <a:xfrm rot="10800000">
            <a:off x="333000" y="6389640"/>
            <a:ext cx="633564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guìxìng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성함</a:t>
            </a:r>
            <a:r>
              <a:rPr b="0" lang="en-US" sz="9000" spc="-1" strike="noStrike">
                <a:solidFill>
                  <a:srgbClr val="000000"/>
                </a:solidFill>
                <a:latin typeface="굴림"/>
              </a:rPr>
              <a:t>,</a:t>
            </a: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존함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姓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7"/>
          <p:cNvSpPr/>
          <p:nvPr/>
        </p:nvSpPr>
        <p:spPr>
          <a:xfrm rot="10800000">
            <a:off x="333000" y="6389640"/>
            <a:ext cx="633564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xìng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8"/>
          <p:cNvSpPr/>
          <p:nvPr/>
        </p:nvSpPr>
        <p:spPr>
          <a:xfrm rot="10800000">
            <a:off x="215640" y="4970520"/>
            <a:ext cx="63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성이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이다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굴림"/>
              </a:rPr>
              <a:t>什么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7"/>
          <p:cNvSpPr/>
          <p:nvPr/>
        </p:nvSpPr>
        <p:spPr>
          <a:xfrm rot="10800000">
            <a:off x="333000" y="6465600"/>
            <a:ext cx="6335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Arial"/>
              </a:rPr>
              <a:t>shénme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8"/>
          <p:cNvSpPr/>
          <p:nvPr/>
        </p:nvSpPr>
        <p:spPr>
          <a:xfrm rot="10800000">
            <a:off x="215640" y="4970520"/>
            <a:ext cx="63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600" spc="-1" strike="noStrike">
                <a:solidFill>
                  <a:srgbClr val="000000"/>
                </a:solidFill>
                <a:latin typeface="굴림"/>
              </a:rPr>
              <a:t>무엇</a:t>
            </a:r>
            <a:r>
              <a:rPr b="0" lang="en-US" sz="9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9600" spc="-1" strike="noStrike">
                <a:solidFill>
                  <a:srgbClr val="000000"/>
                </a:solidFill>
                <a:latin typeface="굴림"/>
              </a:rPr>
              <a:t>무슨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名字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7"/>
          <p:cNvSpPr/>
          <p:nvPr/>
        </p:nvSpPr>
        <p:spPr>
          <a:xfrm rot="10800000">
            <a:off x="333000" y="6389640"/>
            <a:ext cx="633564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míngzi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8"/>
          <p:cNvSpPr/>
          <p:nvPr/>
        </p:nvSpPr>
        <p:spPr>
          <a:xfrm rot="10800000">
            <a:off x="215640" y="4970520"/>
            <a:ext cx="63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이름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认识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7"/>
          <p:cNvSpPr/>
          <p:nvPr/>
        </p:nvSpPr>
        <p:spPr>
          <a:xfrm rot="10800000">
            <a:off x="333000" y="6389640"/>
            <a:ext cx="633564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rènshi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8"/>
          <p:cNvSpPr/>
          <p:nvPr/>
        </p:nvSpPr>
        <p:spPr>
          <a:xfrm rot="10800000">
            <a:off x="215640" y="4970520"/>
            <a:ext cx="63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알다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5000" spc="-1" strike="noStrike">
                <a:solidFill>
                  <a:srgbClr val="000000"/>
                </a:solidFill>
                <a:latin typeface="Arial"/>
              </a:rPr>
              <a:t>很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7"/>
          <p:cNvSpPr/>
          <p:nvPr/>
        </p:nvSpPr>
        <p:spPr>
          <a:xfrm rot="10800000">
            <a:off x="333000" y="6389640"/>
            <a:ext cx="633564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hěn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매우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5000" spc="-1" strike="noStrike">
                <a:solidFill>
                  <a:srgbClr val="000000"/>
                </a:solidFill>
                <a:latin typeface="Arial"/>
              </a:rPr>
              <a:t>高兴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7"/>
          <p:cNvSpPr/>
          <p:nvPr/>
        </p:nvSpPr>
        <p:spPr>
          <a:xfrm rot="10800000">
            <a:off x="333000" y="6539760"/>
            <a:ext cx="633564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0" spc="-1" strike="noStrike">
                <a:solidFill>
                  <a:srgbClr val="000000"/>
                </a:solidFill>
                <a:latin typeface="Arial"/>
              </a:rPr>
              <a:t>gāoxìng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기쁘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也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7"/>
          <p:cNvSpPr/>
          <p:nvPr/>
        </p:nvSpPr>
        <p:spPr>
          <a:xfrm rot="10800000">
            <a:off x="333000" y="6389640"/>
            <a:ext cx="633564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yě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도</a:t>
            </a:r>
            <a:r>
              <a:rPr b="0" lang="en-US" sz="9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역시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他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7"/>
          <p:cNvSpPr/>
          <p:nvPr/>
        </p:nvSpPr>
        <p:spPr>
          <a:xfrm rot="10800000">
            <a:off x="333000" y="6389640"/>
            <a:ext cx="633564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tā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굴림"/>
              </a:rPr>
              <a:t>그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4T01:14:24Z</dcterms:created>
  <dc:creator>System</dc:creator>
  <dc:description/>
  <dc:language>en-US</dc:language>
  <cp:lastModifiedBy>System</cp:lastModifiedBy>
  <dcterms:modified xsi:type="dcterms:W3CDTF">2014-01-24T02:35:31Z</dcterms:modified>
  <cp:revision>10</cp:revision>
  <dc:subject/>
  <dc:title>슬라이드 1</dc:title>
</cp:coreProperties>
</file>